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912-505B-48B0-B19D-852D494A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8C4-ADD4-4757-AA09-843D867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43C-CDD3-4788-B56D-43AA4914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828-67D4-4D74-872E-1E957A41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FFC-3856-44BF-B66F-BC5D9319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951-F81F-4E70-A70A-D787BE1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5F0-2F1E-46B0-8B34-918D42C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47C-87C6-485B-93C6-3C58847B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03A-251A-4E95-B63D-7646959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4BB-334A-4C71-AE71-99C66A6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D6C-CCF3-4DA5-B8EB-83F520C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304-CD52-427B-B13E-38F97483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B210-6912-41F1-9E6B-CBF3D0DD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et Jent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240" y="1143000"/>
            <a:ext cx="83912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69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0" y="3657600"/>
            <a:ext cx="14479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57150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486400" y="2362320"/>
            <a:ext cx="36576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486400" y="365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733920" y="3657600"/>
            <a:ext cx="17524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657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867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2362320" cy="403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62320" y="28954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4:10:52Z</dcterms:created>
  <dc:creator>CGB</dc:creator>
  <dc:description/>
  <dc:language>en-US</dc:language>
  <cp:lastModifiedBy>CGB</cp:lastModifiedBy>
  <dcterms:modified xsi:type="dcterms:W3CDTF">2008-06-03T14:05:09Z</dcterms:modified>
  <cp:revision>3</cp:revision>
  <dc:subject/>
  <dc:title>PowerPoint About Me</dc:title>
</cp:coreProperties>
</file>